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0B31-0746-40FE-A084-0FC7EE766B1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http://lifewallpaperz.com/image.php?pic=/images/2015/sunlight/sunlight-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EB5A-0B7F-43F4-AC52-E9640D0DBAF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sivabio.50webs.com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F966-375D-4540-9E13-73B9B5050CF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CA84-9E61-4DE2-9547-1A82F3E2BB1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E1F1-19A3-46EF-B864-7DEDC7C59D2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5112-364D-42DD-BE4A-BFB5024A9DC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artinaid.com/wp-content/uploads/2013/04/Light-absorption-in-photosynthesis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EE8D-7B42-427A-8344-F3077081A55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kensieandhuntersproject.blogspot.c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tokresource.org/tok_classes/biobiobio/biomenu/photosynthesi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33D-B52C-4060-BB0C-278F1E49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294-32F5-4961-A63F-860D5AE0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747-FB1E-4482-8C83-20E00A7A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5EF-40A5-40AF-A044-D2092FB7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B9D-D182-433F-A12D-AB707F4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204-3770-4AA5-8367-00ED5C9B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033-F68B-433B-B81C-E22CB52D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6E1-EB96-4C48-A13B-B2BC394A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3C5-2C22-447C-BA83-8457F781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A43-4A15-404A-9046-DADE1DD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BDC-B290-43DC-9F0F-32803D11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121-40A7-467D-981A-D644BAA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95D1-C77E-48A1-9E16-55B5B87B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khanacademy.org/science/biology/photosynthesis/v/photosynthesis-light-reactions-and-photophosphorylation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cell.ndsu.edu/animations/photosynthesis/movie-flash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0-1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khanacademy.org/science/biology/photosynthesis/v/photosynthesis-light-reactions-and-photo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nad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las015"/>
          <p:cNvPicPr/>
          <p:nvPr/>
        </p:nvPicPr>
        <p:blipFill>
          <a:blip r:embed="rId1"/>
          <a:stretch/>
        </p:blipFill>
        <p:spPr>
          <a:xfrm>
            <a:off x="1104840" y="1371600"/>
            <a:ext cx="6932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rtual cell mov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Electron Transport Chain in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self-quiz…try it!  (I can’t download the animation but maybe you ca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looking to test yourself…do a search for “light-dependent reactions quiz” &amp; see what you fi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chlorophyll 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3" descr="Light-absorption-in-photosynthesis.png"/>
          <p:cNvPicPr/>
          <p:nvPr/>
        </p:nvPicPr>
        <p:blipFill>
          <a:blip r:embed="rId1"/>
          <a:srcRect l="1546" t="0" r="154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h08c2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u4fg44"/>
          <p:cNvPicPr/>
          <p:nvPr/>
        </p:nvPicPr>
        <p:blipFill>
          <a:blip r:embed="rId1"/>
          <a:stretch/>
        </p:blipFill>
        <p:spPr>
          <a:xfrm>
            <a:off x="457200" y="446040"/>
            <a:ext cx="83059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07_08aPhotosElectronFlow_L"/>
          <p:cNvPicPr/>
          <p:nvPr/>
        </p:nvPicPr>
        <p:blipFill>
          <a:blip r:embed="rId1"/>
          <a:stretch/>
        </p:blipFill>
        <p:spPr>
          <a:xfrm>
            <a:off x="457200" y="1382760"/>
            <a:ext cx="8229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5-10-23T18:37:26Z</dcterms:modified>
  <cp:revision>119</cp:revision>
  <dc:subject/>
  <dc:title>Slide 1</dc:title>
</cp:coreProperties>
</file>